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A4CA-0E8C-4FE3-9EF4-AB27BEF5B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D80B-71B0-41E9-B6EA-9BBC3406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1EE6-1E74-4400-BCF1-7220F6393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17C7-DDA2-43F3-BD8E-6327A47AD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42CB-151B-4BED-8157-00BF0A295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8F3B-A1F3-4168-9965-D54FB9A4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0E6C-0E56-4216-A5F9-2AE4D625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4C25-DE56-4072-AF18-431F02EE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F42B-3A13-4C0A-862D-1618B36A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DF3B-F440-4FAA-9673-74E1DCDD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7B0D-1140-4355-A3A5-DDA25150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D730-95E7-498D-9792-3ED82D0C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FFB1-A5E8-48C5-88FD-4102D167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F62E-BD15-4BBA-A3DA-180E970B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21C7-F7C4-4939-9767-69FDF4F8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078D-77EB-4470-82AF-FCCBD6FB0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23C9-A0F8-4890-B4CF-368CEBD55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F0F3-019A-4893-B10D-4F12E3B3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924D-E69B-45AC-9D04-C348BDEF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65E9-2BD0-48A8-BE6F-0ED73C8F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9D79-AB09-42F1-9ACB-A2900C83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0C5C-EE5A-4E66-AFC6-A5C43745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3123-BC24-4D20-9CC5-BE7028BC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CE64-A5C5-4F31-9DF8-66C373F3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11BE-FEBC-4DEA-9A47-B7ADB3DA7EF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0897-4A6D-4829-BC55-853236B46E6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"/>
              </a:rPr>
              <a:t>     </a:t>
            </a:r>
            <a:r>
              <a:rPr b="1" i="1" lang="en-US" sz="4400" spc="-1" strike="noStrike">
                <a:solidFill>
                  <a:srgbClr val="000000"/>
                </a:solidFill>
                <a:latin typeface="comic"/>
              </a:rPr>
              <a:t>PASTE   FERICIT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 bine asa.  Suntem fericiti!!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5548320" cy="4032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6:50:02Z</dcterms:created>
  <dc:creator>roby</dc:creator>
  <dc:description/>
  <dc:language>en-US</dc:language>
  <cp:lastModifiedBy>lau</cp:lastModifiedBy>
  <dcterms:modified xsi:type="dcterms:W3CDTF">2008-05-04T11:01:51Z</dcterms:modified>
  <cp:revision>2</cp:revision>
  <dc:subject/>
  <dc:title>     PASTE   FERICIT !</dc:title>
</cp:coreProperties>
</file>